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AD407-BD26-4FCF-90B8-E568D355D28F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kaidrės numerio vietos rezervavimo ženklas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86C38-9135-4B7E-B83C-9D231923BF6E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328-9CBC-41D0-B84E-1A44F3A9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055-70A5-45C3-BD20-10E825F5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F9A-987C-4D85-92FE-2A81D1D4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1B2-3CE9-4B86-9F8C-578C06A3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495C-3DE7-4E3B-8CE4-182C6BEF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99D0-796C-448F-8B9A-6A75D52D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85D6-F25A-46D6-ABB1-3766D9B1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D622-DE38-44AF-A462-17245A1D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D4E8-4463-4BA1-A373-88688152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C13A-081B-4F5C-BBCD-05058D69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AE77-71D5-4732-B560-E9B18750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FC1-8A31-470B-9160-6DA5B4E8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7F00-D6BA-44B7-8BDA-31B794D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9222-D2CD-47AC-B4D0-8B21DECB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C0C8-5255-4AE3-ADBB-AC225B68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AAED-09C9-4E7F-B864-E363E7DC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45D0-1B6F-419D-8838-552D5431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5C745-11C2-45B6-90C2-4B7F5636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A81C7-8FB8-4CDC-93EA-44D4FF9E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507F-7680-45E4-B584-C49C8F0E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94426-6C40-4EB5-AAEC-CBDC9B84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DEBE-F79B-4E9D-ACAD-18C404BA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11C-757C-4C9A-A942-9BA03532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3701C-DA75-4F8A-B63A-3EE215C8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A2A2-80C0-4492-BE2C-E64F087F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DD3E-4B5E-4C89-B3F7-6F651807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7D7E0-0CF9-42FF-B13A-CF100138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A663-7C03-4CC9-85D0-552F1F85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4FD37-FDEF-41B4-B3AE-59A9D225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9A80-B75F-46F7-8044-23BA32D8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065D5-AD13-4742-9E26-855AE347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EA143-6BAE-4A7D-AB27-BCF3C0AE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26996-844F-43C7-B896-88D4611C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6E1-9261-4BE0-BFD6-83BEF010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2A7DA-EFBF-4E46-AA94-B2F9C2CE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E0AF0-DD3A-42F1-83A4-3A69E139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61AC4-D42E-43AA-B162-41F73ED3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8E595-289B-4EB6-9A34-2AD6EF40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13ED5-1FB3-45D7-815E-13F54FFD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73AC0-7B65-490E-93D4-353E230D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9D125-0505-494C-A498-FF5F36DF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E0223-8321-4E91-88E1-3C780DCD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21DA4-6512-481E-98C3-E4AC2B61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47B94-2C3C-4BC1-BADA-8B7924B2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CF2-08A0-459E-8633-C1061C42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5F74-85F2-4652-9929-E6A28ED5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97573-3F42-47B0-8B34-64608EFA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1CD88-D608-4770-9389-A8EA9B3A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B69A6-171F-4D9F-ADE7-9F47DDE5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08533-D922-4C93-8E57-D4EE21B5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52106-542F-4EA7-A4EC-3647D52A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BD12D-D461-4465-AB91-2DF9DD13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9C968-9AB2-4814-9D84-7A64C015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A14F0-DF6F-4282-BF67-681F3416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67D69-ABA7-47E7-8400-F7C43FCF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17B-A67E-4771-A21A-6FC66FDF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4707-66B6-4847-BBA8-0B363394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38A3C-BBDB-49F4-BEF5-737354FD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6D6E6-C27B-43EA-9993-15AD9801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5936A-54D5-40DD-9A0B-21AAC234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C11E0-D379-4110-86B8-83B0D068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B5B2D-FAA7-4FC0-A036-F2C285FC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0E24C-F69E-4423-8EC5-32547142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29AFA-A2B7-4DF5-8091-763BAE76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1E097-B74E-4A25-A873-BC0F822C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4C68E-0D6B-4A51-A9D5-E30A9768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87C-EB48-498A-B601-FC37B8BB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1A365-6759-4CC4-95CF-B73311F2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B3BF6-7074-47D4-80C0-8EDE4E46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7DDC5-2C9E-48A3-90EF-5E246F06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543B5-68C4-4CFB-9036-0F0E0940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56F8E-0131-47A9-BA2F-5FBDDE7D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5D4DC-EE20-4DAA-B61F-6AD2E51B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48FF4-1DD4-458D-92CA-24CE189E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37744-6B9D-420C-BCCE-00A0345B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38BF1-6710-4522-9B7A-53314C4F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AD687-D159-4AAF-9A6C-A279668B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125-3A4B-43B7-9C02-432D5DD3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5DD47-EF31-4D17-B95E-E81D9B74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3A0C7-8859-4E77-994C-73759BD7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C1A56-CB3C-4932-B65C-074217AB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29E58-59E8-4705-93E5-A540B44F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DB5CA-EE6D-4F23-A848-DDFD266D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0C9-1696-4072-B001-4FBFD329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BA268-B3A0-4D97-9EB1-7C637A19C2B2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1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9C404-1E06-44E8-B606-32AD31EB6A64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1324B-84AA-4DFF-B2AA-1F1E0D553402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1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F8400-20D7-470F-A187-6221CA6CAB3F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0C6E0-3C91-4784-AF8A-490D724CD521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1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B3CA8-0039-42D6-BEBE-09B167D1D13F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6DB4C-6368-4D03-B4A4-3CE44DB75338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1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C1996-2AC9-41C3-B2B5-1697298AF5BD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75DCD-9D16-4F79-9E78-96E564FA43F7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1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C47C6-5A4D-418A-9155-5633EB8CC7CC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24D3B-4F57-44AD-B6BC-486CCE5C42F4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1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1D39B-3DC1-421F-8AB6-16798BD94D67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0A0DA-C6FD-48A7-93D6-A65E81EC9BA4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1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D3660-B99C-4FDD-A640-F80695E0F2E1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Žurnalistika, reklama ir viešieji ryšia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Candara"/>
              </a:rPr>
              <a:t>Kaip atskirti žurnalisto, reklamos kūrėjo ir viešųjų ryšių specialisto pranešimus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95280" y="2565000"/>
            <a:ext cx="8569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900" spc="-1" strike="noStrike">
                <a:solidFill>
                  <a:srgbClr val="073e87"/>
                </a:solidFill>
                <a:latin typeface="Candara"/>
              </a:rPr>
              <a:t>Profesionaliai paruoštas viešųjų ryšių pranešimas kartais būna visiškai toks pat, kaip žurnalisto parengtas tekstas. 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31840" indent="-231840"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900" spc="-1" strike="noStrike">
                <a:solidFill>
                  <a:srgbClr val="073e87"/>
                </a:solidFill>
                <a:latin typeface="Candara"/>
              </a:rPr>
              <a:t>Gerai dirbantis viešųjų ryšių specialistas gali parengti straipsnį, atitinkantį visus žurnalistiniam tekstui keliamus reikalavimus – pateikti kelias nuomones, atskleisti tendenciją, patenkinti visuomenės interesus, tačiau drauge atspindėti ir atstovaujamos organizacijos vertybes. 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Verta žinoti</a:t>
            </a:r>
            <a:r>
              <a:rPr b="1" lang="lt-LT" sz="44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Candara"/>
              </a:rPr>
              <a:t>Reklamos pranešima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Skaidrės numerio vietos rezervavimo ženklas 4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7E57D-EB63-4125-8D63-38F518B2D4B1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Content Placeholder 5" descr="show_foto.jpg"/>
          <p:cNvPicPr/>
          <p:nvPr/>
        </p:nvPicPr>
        <p:blipFill>
          <a:blip r:embed="rId1"/>
          <a:stretch/>
        </p:blipFill>
        <p:spPr>
          <a:xfrm>
            <a:off x="5087880" y="1600200"/>
            <a:ext cx="3159360" cy="2133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Untitled.jpg"/>
          <p:cNvPicPr/>
          <p:nvPr/>
        </p:nvPicPr>
        <p:blipFill>
          <a:blip r:embed="rId2"/>
          <a:stretch/>
        </p:blipFill>
        <p:spPr>
          <a:xfrm>
            <a:off x="5087880" y="3809880"/>
            <a:ext cx="3159360" cy="25336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539640" y="51800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Šaltinis: www.kauno.diena.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Content Placeholder 6" descr="ac353ffd7e823a29cb1a463d806923d3_600.jpg"/>
          <p:cNvPicPr/>
          <p:nvPr/>
        </p:nvPicPr>
        <p:blipFill>
          <a:blip r:embed="rId3"/>
          <a:stretch/>
        </p:blipFill>
        <p:spPr>
          <a:xfrm>
            <a:off x="457200" y="2089080"/>
            <a:ext cx="337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ntent Placeholder 6" descr="Zurnal-pranes.jpg"/>
          <p:cNvPicPr/>
          <p:nvPr/>
        </p:nvPicPr>
        <p:blipFill>
          <a:blip r:embed="rId1"/>
          <a:stretch/>
        </p:blipFill>
        <p:spPr>
          <a:xfrm>
            <a:off x="1042920" y="2505240"/>
            <a:ext cx="6913800" cy="4109760"/>
          </a:xfrm>
          <a:prstGeom prst="rect">
            <a:avLst/>
          </a:prstGeom>
          <a:ln w="0">
            <a:noFill/>
          </a:ln>
        </p:spPr>
      </p:pic>
      <p:sp>
        <p:nvSpPr>
          <p:cNvPr id="376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3D855-C431-46FB-B2ED-1AE174FBA20B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Candara"/>
              </a:rPr>
              <a:t>Žurnalistinis pranešima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ontent Placeholder 3" descr="pr-pran.jpg"/>
          <p:cNvPicPr/>
          <p:nvPr/>
        </p:nvPicPr>
        <p:blipFill>
          <a:blip r:embed="rId1"/>
          <a:stretch/>
        </p:blipFill>
        <p:spPr>
          <a:xfrm>
            <a:off x="539640" y="2708280"/>
            <a:ext cx="8304480" cy="4037040"/>
          </a:xfrm>
          <a:prstGeom prst="rect">
            <a:avLst/>
          </a:prstGeom>
          <a:ln w="0">
            <a:noFill/>
          </a:ln>
        </p:spPr>
      </p:pic>
      <p:sp>
        <p:nvSpPr>
          <p:cNvPr id="379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D3598-4667-4074-B722-C23304F25692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Candara"/>
              </a:rPr>
              <a:t>Viešųjų ryšių pranešima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200" y="2565000"/>
            <a:ext cx="78152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73e87"/>
                </a:solidFill>
                <a:latin typeface="Candara"/>
              </a:rPr>
              <a:t>Prižiūrėti</a:t>
            </a: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 socialinę bei politinę aplinką, pranešti apie pasikeitimus, kurie gali turėti teigiamos arba neigiamos įtakos piliečiam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73e87"/>
                </a:solidFill>
                <a:latin typeface="Candara"/>
              </a:rPr>
              <a:t>Nustatyti </a:t>
            </a: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prasmingą visuomenės diskusijų eigą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73e87"/>
                </a:solidFill>
                <a:latin typeface="Candara"/>
              </a:rPr>
              <a:t>Suteikti</a:t>
            </a: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 tribūną piliečiams, politikams bei interesų grupėms išsakyti savo požiūrį ar apsiginti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73e87"/>
                </a:solidFill>
                <a:latin typeface="Candara"/>
              </a:rPr>
              <a:t>Skatinti </a:t>
            </a: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įvairių nuomonių dialogą, palengvinti jį tarp valdžios pareigūnų ir visuomenės atstovų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91C55-33AC-4460-BCD4-B8A682374425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Žurnalistikos tikslai ir pareigo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755640" y="2674440"/>
            <a:ext cx="81374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Sudomin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vartotojus preke, paslauga ar idėja (labdaros akcija, politine partija ar pan.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Populiarin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prekes, paslaugas ar idėjas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Paskatin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pirkti, balsuoti (už) ir t. t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FBD97-F8B5-44E9-AE64-50EC543F1A42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Reklamos tiksla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611280" y="2674440"/>
            <a:ext cx="83534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Informuo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visuomenę apie prekes, įvykius, tendencijas ir kt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Kurti 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gerą organizacijos ar asmens įvaizdį visuomenės akyse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Skatin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visuomenę palaikyti organizaciją, idėją, prekės ženklą ar asmenį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D940D-947A-4004-BFB5-489CC8FDA66C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Viešųjų ryšių tiksla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Žurnalistai turi nuolatos pateikti naujienas, tačiau kasdien sugalvoti po kelias temas sudėtinga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Temas ar tekstus siūlo viešųjų ryšių specialistai, kurie dirba tarsi tarpininkai tarp žurnalistų ir organizacijų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as bendra tarp v</a:t>
            </a:r>
            <a:r>
              <a:rPr b="1" lang="cs-CZ" sz="4000" spc="-1" strike="noStrike">
                <a:solidFill>
                  <a:srgbClr val="ffffff"/>
                </a:solidFill>
                <a:latin typeface="Candara"/>
              </a:rPr>
              <a:t>iešųjų ryšių ir žurnalistikos</a:t>
            </a: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11280" y="256536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Reklama yra kova už vartotojų pinigus, o viešieji ryšiai yra kova už visuomenės protą“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Reklamuojama parduodama prekė, o viešaisiais ryšiais siekiama visuomenės palankumo ir paramos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Reklamuojama fragmentiškai, o viešaisiais ryšiais formuojamas ilgalaikis įvaizdis visuomenėje, kuriamas pasitikėjimas ir užsitikrinama jos parama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FA203-21DB-4115-88EE-83FD2CCD1382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uo skiriasi reklama ir viešieji ryšiai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63400" y="2346120"/>
            <a:ext cx="828072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Žurnalistika – gana fragmentiška veikla, nes žurnalistas rengia tas temas, kurios jam atrodo įdomios, kokią informaciją gauna ir pan. Viešųjų ryšių specialistas laikosi komunikacijos tęstinumo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Žurnalistas naudoja vieną kanalą informacijai pateikti – masinės komunikacijos priemones.  Viešųjų ryšių specialistas naudoja jų daugiau – socialinius tinklus, renginius ir pan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Skaidrės numerio vietos rezervavimo ženklas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B5957-3E4F-4391-B180-45AB2208C45F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uo skiriasi žurnalistika ir viešieji ryšiai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4000" y="2565000"/>
            <a:ext cx="813564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Reklama: </a:t>
            </a:r>
            <a:r>
              <a:rPr b="0" lang="cs-CZ" sz="3000" spc="-1" strike="noStrike">
                <a:solidFill>
                  <a:srgbClr val="073e87"/>
                </a:solidFill>
                <a:latin typeface="Candara"/>
              </a:rPr>
              <a:t>„Tai pats geriausias sviestas!“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Viešieji ryšiai: </a:t>
            </a:r>
            <a:r>
              <a:rPr b="0" lang="cs-CZ" sz="3000" spc="-1" strike="noStrike">
                <a:solidFill>
                  <a:srgbClr val="073e87"/>
                </a:solidFill>
                <a:latin typeface="Candara"/>
              </a:rPr>
              <a:t>„Tai geras sviestas, nes pagamintas pagal senąsias lietuviškos kulinarijos tradicijas ir gaminamas iš natūralaus lietuviškos karvutės pieno“</a:t>
            </a: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Žurnalistika: </a:t>
            </a:r>
            <a:r>
              <a:rPr b="0" lang="cs-CZ" sz="3000" spc="-1" strike="noStrike">
                <a:solidFill>
                  <a:srgbClr val="073e87"/>
                </a:solidFill>
                <a:latin typeface="Candara"/>
              </a:rPr>
              <a:t>„Visuomenės nuomonės apklausos rodo, kad tai geras sviestas, tačiau specialistų vertinimai </a:t>
            </a: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prieštaringi</a:t>
            </a:r>
            <a:r>
              <a:rPr b="0" lang="cs-CZ" sz="30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.  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BDCAE-FF52-4C21-844C-588A9C70120E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aip skiriasi pranešimų stilius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267840" y="242064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Dažnai informacija pateikiama iš vieno šaltinio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Minimas vienas prekės ženklas ar organizacija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Pateikiama vienos organizacijos naujiena, o ne skirtingi vertinimai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Kartais būna pažymėta ženklais </a:t>
            </a:r>
            <a:r>
              <a:rPr b="0" lang="cs-CZ" sz="3200" spc="-1" strike="noStrike">
                <a:solidFill>
                  <a:srgbClr val="073e87"/>
                </a:solidFill>
                <a:latin typeface="Candara"/>
              </a:rPr>
              <a:t>„PR“, „R“, „Užs.“, „Parengta bendradarbiaujant su...“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10200-F3AA-4EE8-8226-0A08968339A3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aip atpažinti viešųjų ryšių pranešimą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07:00:09Z</dcterms:created>
  <dc:creator>Egidijus Jurgelionis</dc:creator>
  <dc:description/>
  <dc:language>en-US</dc:language>
  <cp:lastModifiedBy>Gražina Jurgutavičiūtė</cp:lastModifiedBy>
  <dcterms:modified xsi:type="dcterms:W3CDTF">2015-12-28T15:08:16Z</dcterms:modified>
  <cp:revision>72</cp:revision>
  <dc:subject/>
  <dc:title>Žurnalistika, reklama ir viešieji ryšiai</dc:title>
</cp:coreProperties>
</file>